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6.jpeg" ContentType="image/jpeg"/>
  <Override PartName="/ppt/media/image9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17.wmf" ContentType="image/x-wmf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AC45-C603-4E19-9A50-EA04DBEF85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ECED-02E1-489B-97D1-618BF2F4C1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806D-2A7E-4FF4-B448-34AB6643D6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6FDA-FC24-45F7-9C90-F86B414748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C705-F12C-48C9-91D8-F6EDF8FF0F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0245-E61D-45DB-B118-2FE7A38881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2AE9-39B2-431B-9B60-AD19EFDD60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927D-8DF0-4407-9BC4-D825AEB018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A076-7DCE-49F7-AC53-86F9009243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DE33-C5FA-41CE-A5E0-0F3CFFDC4F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59B1-0315-4566-8187-0CAE343970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428B-3574-4563-912C-05CEECEADB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7496-3AB6-46A5-B77A-40EC4B44FA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6D0A-6F11-4D1A-AABB-4E65559666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73B9-B87E-4FE4-889C-7B1E18F2DC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E638-44A5-4578-890D-A4DA029D6D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83BB-A778-4D81-BD17-36B36CBC45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9509-60B1-4055-83E5-07065A74B0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862-63D0-48E5-B5F0-2CFF3883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198-AA67-4389-8CD8-381CD4FC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03E-11BA-45B1-A479-6AE49880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F99-32DF-48A7-AF65-7AC1C1D1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368-1465-471D-ACCE-4FA5B805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A56-A27A-4B09-8217-BB2B2213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93E-A8AD-41FF-8D03-72CEA646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ECE-097B-40D3-9D1B-E84D5C92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1A0-6080-48F1-ABF5-31FB189D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9AC-78DF-42EC-967F-1330EB8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22F-EF32-4125-98B6-F00B51DC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10C-7462-4F60-A4A2-A58984F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180F-4BDF-4DC3-A8EF-831D344430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s://www.arttodayjapan.com/entry.php?type=p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28880" y="2060640"/>
            <a:ext cx="64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66"/>
                </a:solidFill>
                <a:latin typeface="Arial"/>
                <a:ea typeface="NtMotoyaKyotai"/>
              </a:rPr>
              <a:t>カタカナ</a:t>
            </a:r>
            <a:r>
              <a:rPr b="1" lang="en-GB" sz="9600" spc="-1" strike="noStrike">
                <a:solidFill>
                  <a:srgbClr val="ffff66"/>
                </a:solidFill>
                <a:latin typeface="Arial"/>
                <a:ea typeface="MS Gothic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68520" y="4005360"/>
            <a:ext cx="32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99"/>
                </a:solidFill>
                <a:latin typeface="Arial"/>
                <a:ea typeface="NtMotoyaKyotai"/>
              </a:rPr>
              <a:t>ま ち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8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 flipH="1">
            <a:off x="1857240" y="336600"/>
            <a:ext cx="6336000" cy="6261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2880" y="6021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oes the water in the</a:t>
            </a: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 k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tle</a:t>
            </a: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 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260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ケ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k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フリーフォーム 6"/>
          <p:cNvSpPr/>
          <p:nvPr/>
        </p:nvSpPr>
        <p:spPr>
          <a:xfrm rot="18900000">
            <a:off x="2390760" y="2373120"/>
            <a:ext cx="2486160" cy="871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フリーフォーム 12"/>
          <p:cNvSpPr/>
          <p:nvPr/>
        </p:nvSpPr>
        <p:spPr>
          <a:xfrm>
            <a:off x="3892680" y="2514600"/>
            <a:ext cx="3159000" cy="682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フリーフォーム 14"/>
          <p:cNvSpPr/>
          <p:nvPr/>
        </p:nvSpPr>
        <p:spPr>
          <a:xfrm rot="18900000">
            <a:off x="2903040" y="3781080"/>
            <a:ext cx="3162600" cy="1233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6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1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100"/>
                            </p:stCondLst>
                            <p:childTnLst>
                              <p:par>
                                <p:cTn id="3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フリーフォーム 12"/>
          <p:cNvSpPr/>
          <p:nvPr/>
        </p:nvSpPr>
        <p:spPr>
          <a:xfrm rot="18900000">
            <a:off x="2390760" y="2373120"/>
            <a:ext cx="2486160" cy="87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フリーフォーム 15"/>
          <p:cNvSpPr/>
          <p:nvPr/>
        </p:nvSpPr>
        <p:spPr>
          <a:xfrm>
            <a:off x="6807240" y="156204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フリーフォーム 16"/>
          <p:cNvSpPr/>
          <p:nvPr/>
        </p:nvSpPr>
        <p:spPr>
          <a:xfrm>
            <a:off x="6383160" y="18511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フリーフォーム 13"/>
          <p:cNvSpPr/>
          <p:nvPr/>
        </p:nvSpPr>
        <p:spPr>
          <a:xfrm>
            <a:off x="3892680" y="2514600"/>
            <a:ext cx="3159000" cy="68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フリーフォーム 14"/>
          <p:cNvSpPr/>
          <p:nvPr/>
        </p:nvSpPr>
        <p:spPr>
          <a:xfrm rot="18900000">
            <a:off x="2903040" y="3781080"/>
            <a:ext cx="3162600" cy="123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68520" y="1628640"/>
            <a:ext cx="3816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げ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フリーフォーム 6"/>
          <p:cNvSpPr/>
          <p:nvPr/>
        </p:nvSpPr>
        <p:spPr>
          <a:xfrm rot="19200000">
            <a:off x="2386080" y="2660400"/>
            <a:ext cx="3295440" cy="159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フリーフォーム 8"/>
          <p:cNvSpPr/>
          <p:nvPr/>
        </p:nvSpPr>
        <p:spPr>
          <a:xfrm rot="19200000">
            <a:off x="3265200" y="3938400"/>
            <a:ext cx="2882880" cy="1699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フリーフォーム 11"/>
          <p:cNvSpPr/>
          <p:nvPr/>
        </p:nvSpPr>
        <p:spPr>
          <a:xfrm>
            <a:off x="5724360" y="3691080"/>
            <a:ext cx="1148040" cy="154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む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15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36880" y="2421000"/>
            <a:ext cx="4032360" cy="33130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16520" y="404640"/>
            <a:ext cx="3414600" cy="3573720"/>
          </a:xfrm>
          <a:prstGeom prst="rect">
            <a:avLst/>
          </a:prstGeom>
          <a:ln w="0">
            <a:noFill/>
          </a:ln>
        </p:spPr>
      </p:pic>
      <p:sp>
        <p:nvSpPr>
          <p:cNvPr id="118" name="フリーフォーム 6"/>
          <p:cNvSpPr/>
          <p:nvPr/>
        </p:nvSpPr>
        <p:spPr>
          <a:xfrm rot="19200000">
            <a:off x="2360160" y="3068280"/>
            <a:ext cx="3295800" cy="159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フリーフォーム 8"/>
          <p:cNvSpPr/>
          <p:nvPr/>
        </p:nvSpPr>
        <p:spPr>
          <a:xfrm rot="19200000">
            <a:off x="3240000" y="4346280"/>
            <a:ext cx="2882880" cy="1700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フリーフォーム 11"/>
          <p:cNvSpPr/>
          <p:nvPr/>
        </p:nvSpPr>
        <p:spPr>
          <a:xfrm>
            <a:off x="5699160" y="4098960"/>
            <a:ext cx="1147680" cy="154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" y="6021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m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e ate part of a tri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39800" y="260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ム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m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800"/>
                            </p:stCondLst>
                            <p:childTnLst>
                              <p:par>
                                <p:cTn id="4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300"/>
                            </p:stCondLst>
                            <p:childTnLst>
                              <p:par>
                                <p:cTn id="4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9800"/>
                            </p:stCondLst>
                            <p:childTnLst>
                              <p:par>
                                <p:cTn id="4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300"/>
                            </p:stCondLst>
                            <p:childTnLst>
                              <p:par>
                                <p:cTn id="4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フリーフォーム 8"/>
          <p:cNvSpPr/>
          <p:nvPr/>
        </p:nvSpPr>
        <p:spPr>
          <a:xfrm rot="20400000">
            <a:off x="2651040" y="2962080"/>
            <a:ext cx="4114800" cy="74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フリーフォーム 6"/>
          <p:cNvSpPr/>
          <p:nvPr/>
        </p:nvSpPr>
        <p:spPr>
          <a:xfrm rot="20400000">
            <a:off x="5108400" y="3067200"/>
            <a:ext cx="1775160" cy="77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フリーフォーム 12"/>
          <p:cNvSpPr/>
          <p:nvPr/>
        </p:nvSpPr>
        <p:spPr>
          <a:xfrm rot="16200000">
            <a:off x="3475080" y="2487600"/>
            <a:ext cx="3502080" cy="226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せ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27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74960" y="0"/>
            <a:ext cx="5867280" cy="6381720"/>
          </a:xfrm>
          <a:prstGeom prst="rect">
            <a:avLst/>
          </a:prstGeom>
          <a:ln w="0">
            <a:noFill/>
          </a:ln>
        </p:spPr>
      </p:pic>
      <p:sp>
        <p:nvSpPr>
          <p:cNvPr id="129" name="フリーフォーム 8"/>
          <p:cNvSpPr/>
          <p:nvPr/>
        </p:nvSpPr>
        <p:spPr>
          <a:xfrm rot="20400000">
            <a:off x="2651040" y="2962080"/>
            <a:ext cx="4114800" cy="74772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フリーフォーム 6"/>
          <p:cNvSpPr/>
          <p:nvPr/>
        </p:nvSpPr>
        <p:spPr>
          <a:xfrm rot="20400000">
            <a:off x="5108400" y="3067200"/>
            <a:ext cx="1775160" cy="77292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フリーフォーム 12"/>
          <p:cNvSpPr/>
          <p:nvPr/>
        </p:nvSpPr>
        <p:spPr>
          <a:xfrm rot="16200000">
            <a:off x="3475080" y="2487600"/>
            <a:ext cx="3502080" cy="226368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2880" y="6021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Someone is </a:t>
            </a: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ting the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96880" y="26028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セ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s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ting the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400"/>
                            </p:stCondLst>
                            <p:childTnLst>
                              <p:par>
                                <p:cTn id="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900"/>
                            </p:stCondLst>
                            <p:childTnLst>
                              <p:par>
                                <p:cTn id="4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138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600"/>
                            </p:stCondLst>
                            <p:childTnLst>
                              <p:par>
                                <p:cTn id="5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フリーフォーム 8"/>
          <p:cNvSpPr/>
          <p:nvPr/>
        </p:nvSpPr>
        <p:spPr>
          <a:xfrm rot="18900000">
            <a:off x="2716200" y="2595240"/>
            <a:ext cx="2508120" cy="63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フリーフォーム 11"/>
          <p:cNvSpPr/>
          <p:nvPr/>
        </p:nvSpPr>
        <p:spPr>
          <a:xfrm>
            <a:off x="4933800" y="1898640"/>
            <a:ext cx="1481400" cy="38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フリーフォーム 15"/>
          <p:cNvSpPr/>
          <p:nvPr/>
        </p:nvSpPr>
        <p:spPr>
          <a:xfrm rot="18900000">
            <a:off x="2426760" y="3531960"/>
            <a:ext cx="4867560" cy="88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フリーフォーム 17"/>
          <p:cNvSpPr/>
          <p:nvPr/>
        </p:nvSpPr>
        <p:spPr>
          <a:xfrm>
            <a:off x="4129200" y="3087720"/>
            <a:ext cx="1050840" cy="911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152880" y="1484280"/>
            <a:ext cx="3384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た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 rot="13944000">
            <a:off x="2882880" y="961560"/>
            <a:ext cx="3671640" cy="4716720"/>
          </a:xfrm>
          <a:prstGeom prst="rect">
            <a:avLst/>
          </a:prstGeom>
          <a:ln w="0">
            <a:noFill/>
          </a:ln>
        </p:spPr>
      </p:pic>
      <p:sp>
        <p:nvSpPr>
          <p:cNvPr id="213" name="フリーフォーム 8"/>
          <p:cNvSpPr/>
          <p:nvPr/>
        </p:nvSpPr>
        <p:spPr>
          <a:xfrm rot="18900000">
            <a:off x="2716200" y="2595240"/>
            <a:ext cx="2508120" cy="631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フリーフォーム 11"/>
          <p:cNvSpPr/>
          <p:nvPr/>
        </p:nvSpPr>
        <p:spPr>
          <a:xfrm>
            <a:off x="4933800" y="1898640"/>
            <a:ext cx="148140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フリーフォーム 15"/>
          <p:cNvSpPr/>
          <p:nvPr/>
        </p:nvSpPr>
        <p:spPr>
          <a:xfrm rot="18900000">
            <a:off x="2426760" y="3531960"/>
            <a:ext cx="4867560" cy="885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フリーフォーム 17"/>
          <p:cNvSpPr/>
          <p:nvPr/>
        </p:nvSpPr>
        <p:spPr>
          <a:xfrm>
            <a:off x="4129200" y="3087720"/>
            <a:ext cx="1050840" cy="911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20880" y="18900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タ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a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dp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1800" y="558972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pole with one leg, soon to become a fr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800520"/>
            <a:ext cx="1774800" cy="15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600"/>
                            </p:stCondLst>
                            <p:childTnLst>
                              <p:par>
                                <p:cTn id="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100"/>
                            </p:stCondLst>
                            <p:childTnLst>
                              <p:par>
                                <p:cTn id="5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6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1100"/>
                            </p:stCondLst>
                            <p:childTnLst>
                              <p:par>
                                <p:cTn id="5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97240" y="4365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super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65600" y="5084640"/>
            <a:ext cx="455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スーパ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2936880" y="196920"/>
            <a:ext cx="4176720" cy="4041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61240" y="260280"/>
            <a:ext cx="3024000" cy="863640"/>
          </a:xfrm>
          <a:prstGeom prst="wedgeRoundRectCallout">
            <a:avLst>
              <a:gd name="adj1" fmla="val -35143"/>
              <a:gd name="adj2" fmla="val 78125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NtMotoyaKyotai"/>
              </a:rPr>
              <a:t>何かな</a:t>
            </a:r>
            <a:r>
              <a:rPr b="0" lang="en-NZ" sz="4800" spc="-1" strike="noStrike">
                <a:solidFill>
                  <a:srgbClr val="000000"/>
                </a:solidFill>
                <a:latin typeface="Comic Sans MS"/>
                <a:ea typeface="NtMotoyaKyota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04880" y="2637000"/>
            <a:ext cx="2674800" cy="392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15800" y="189000"/>
            <a:ext cx="2217960" cy="2448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440160" y="297000"/>
            <a:ext cx="4608360" cy="3457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161040" y="3573360"/>
            <a:ext cx="3745080" cy="2805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88880" y="476280"/>
            <a:ext cx="720720" cy="1297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36520" y="40464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36520" y="3500280"/>
            <a:ext cx="237672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45240" y="620640"/>
            <a:ext cx="863640" cy="57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00880" y="4292640"/>
            <a:ext cx="72072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97240" y="515772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ぷ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ー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458136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swimming 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24160" y="515772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プ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ー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65600" y="260280"/>
            <a:ext cx="4392360" cy="4283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4452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ew Kata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フリーフォーム 8"/>
          <p:cNvSpPr/>
          <p:nvPr/>
        </p:nvSpPr>
        <p:spPr>
          <a:xfrm rot="19800000">
            <a:off x="3182760" y="1623600"/>
            <a:ext cx="3443400" cy="1731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フリーフォーム 12"/>
          <p:cNvSpPr/>
          <p:nvPr/>
        </p:nvSpPr>
        <p:spPr>
          <a:xfrm rot="19800000">
            <a:off x="3251160" y="3146400"/>
            <a:ext cx="4051440" cy="1687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24160" y="1700280"/>
            <a:ext cx="388944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ふ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237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39800" y="198360"/>
            <a:ext cx="7129440" cy="6659640"/>
          </a:xfrm>
          <a:prstGeom prst="rect">
            <a:avLst/>
          </a:prstGeom>
          <a:ln w="0">
            <a:noFill/>
          </a:ln>
        </p:spPr>
      </p:pic>
      <p:sp>
        <p:nvSpPr>
          <p:cNvPr id="239" name="フリーフォーム 8"/>
          <p:cNvSpPr/>
          <p:nvPr/>
        </p:nvSpPr>
        <p:spPr>
          <a:xfrm rot="19800000">
            <a:off x="3584520" y="2133720"/>
            <a:ext cx="2022480" cy="1222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フリーフォーム 12"/>
          <p:cNvSpPr/>
          <p:nvPr/>
        </p:nvSpPr>
        <p:spPr>
          <a:xfrm rot="19800000">
            <a:off x="3728880" y="3141360"/>
            <a:ext cx="2379960" cy="1192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3240" y="6156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Who 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s hung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8880" y="189000"/>
            <a:ext cx="31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フ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1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6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100"/>
                            </p:stCondLst>
                            <p:childTnLst>
                              <p:par>
                                <p:cTn id="7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フリーフォーム 10"/>
          <p:cNvSpPr/>
          <p:nvPr/>
        </p:nvSpPr>
        <p:spPr>
          <a:xfrm>
            <a:off x="2975040" y="2181240"/>
            <a:ext cx="3698640" cy="75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フリーフォーム 11"/>
          <p:cNvSpPr/>
          <p:nvPr/>
        </p:nvSpPr>
        <p:spPr>
          <a:xfrm>
            <a:off x="3905280" y="2495520"/>
            <a:ext cx="2695680" cy="322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フリーフォーム 8"/>
          <p:cNvSpPr/>
          <p:nvPr/>
        </p:nvSpPr>
        <p:spPr>
          <a:xfrm rot="1200000">
            <a:off x="6534000" y="1872720"/>
            <a:ext cx="424080" cy="40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フリーフォーム 7"/>
          <p:cNvSpPr/>
          <p:nvPr/>
        </p:nvSpPr>
        <p:spPr>
          <a:xfrm rot="1200000">
            <a:off x="6676560" y="145080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フリーフォーム 9"/>
          <p:cNvSpPr/>
          <p:nvPr/>
        </p:nvSpPr>
        <p:spPr>
          <a:xfrm rot="1200000">
            <a:off x="7056000" y="159552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フリーフォーム 12"/>
          <p:cNvSpPr/>
          <p:nvPr/>
        </p:nvSpPr>
        <p:spPr>
          <a:xfrm rot="1200000">
            <a:off x="6919920" y="2009520"/>
            <a:ext cx="43956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368520" y="1628640"/>
            <a:ext cx="39610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ぷ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500"/>
                            </p:stCondLst>
                            <p:childTnLst>
                              <p:par>
                                <p:cTn id="7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500"/>
                            </p:stCondLst>
                            <p:childTnLst>
                              <p:par>
                                <p:cTn id="7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フリーフォーム 6"/>
          <p:cNvSpPr/>
          <p:nvPr/>
        </p:nvSpPr>
        <p:spPr>
          <a:xfrm rot="18900000">
            <a:off x="1765080" y="3176280"/>
            <a:ext cx="2917800" cy="166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フリーフォーム 13"/>
          <p:cNvSpPr/>
          <p:nvPr/>
        </p:nvSpPr>
        <p:spPr>
          <a:xfrm rot="17100000">
            <a:off x="3162240" y="3168000"/>
            <a:ext cx="3591000" cy="132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フリーフォーム 14"/>
          <p:cNvSpPr/>
          <p:nvPr/>
        </p:nvSpPr>
        <p:spPr>
          <a:xfrm rot="17100000">
            <a:off x="4832280" y="3817800"/>
            <a:ext cx="2520720" cy="143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81240" y="1916280"/>
            <a:ext cx="370548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500"/>
                            </p:stCondLst>
                            <p:childTnLst>
                              <p:par>
                                <p:cTn id="7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 flipH="1">
            <a:off x="344160" y="0"/>
            <a:ext cx="7775640" cy="6524640"/>
          </a:xfrm>
          <a:prstGeom prst="rect">
            <a:avLst/>
          </a:prstGeom>
          <a:ln w="0">
            <a:noFill/>
          </a:ln>
        </p:spPr>
      </p:pic>
      <p:sp>
        <p:nvSpPr>
          <p:cNvPr id="256" name="フリーフォーム 6"/>
          <p:cNvSpPr/>
          <p:nvPr/>
        </p:nvSpPr>
        <p:spPr>
          <a:xfrm rot="18900000">
            <a:off x="1765080" y="3176280"/>
            <a:ext cx="2917800" cy="1668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フリーフォーム 13"/>
          <p:cNvSpPr/>
          <p:nvPr/>
        </p:nvSpPr>
        <p:spPr>
          <a:xfrm rot="17100000">
            <a:off x="3162240" y="3168000"/>
            <a:ext cx="3591000" cy="1320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フリーフォーム 14"/>
          <p:cNvSpPr/>
          <p:nvPr/>
        </p:nvSpPr>
        <p:spPr>
          <a:xfrm rot="17100000">
            <a:off x="4832280" y="3817800"/>
            <a:ext cx="2520720" cy="1431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65240" y="6156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legs of a kanga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880" y="189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ル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33cc"/>
                </a:solidFill>
                <a:latin typeface="Kristen ITC"/>
              </a:rPr>
              <a:t>kanga</a:t>
            </a:r>
            <a:r>
              <a:rPr b="0" lang="en-NZ" sz="4400" spc="-1" strike="noStrike">
                <a:solidFill>
                  <a:srgbClr val="ffff00"/>
                </a:solidFill>
                <a:latin typeface="Kristen ITC"/>
              </a:rPr>
              <a:t>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4800"/>
                            </p:stCondLst>
                            <p:childTnLst>
                              <p:par>
                                <p:cTn id="8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3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800"/>
                            </p:stCondLst>
                            <p:childTnLst>
                              <p:par>
                                <p:cTn id="8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300"/>
                            </p:stCondLst>
                            <p:childTnLst>
                              <p:par>
                                <p:cTn id="8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8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0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2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944880" y="0"/>
            <a:ext cx="5059440" cy="3794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944880" y="2486160"/>
            <a:ext cx="5829480" cy="4371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1268280"/>
            <a:ext cx="3997440" cy="5256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184880" y="0"/>
            <a:ext cx="2425680" cy="3068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65600" y="155736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81240" y="134136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68520" y="393372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4520" y="508464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84880" y="613872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7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9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-360" y="5300640"/>
            <a:ext cx="8888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907920"/>
          <a:ext cx="9906120" cy="5334120"/>
        </p:xfrm>
        <a:graphic>
          <a:graphicData uri="http://schemas.openxmlformats.org/drawingml/2006/table">
            <a:tbl>
              <a:tblPr/>
              <a:tblGrid>
                <a:gridCol w="662040"/>
                <a:gridCol w="660240"/>
                <a:gridCol w="660600"/>
                <a:gridCol w="658800"/>
                <a:gridCol w="662040"/>
                <a:gridCol w="660240"/>
                <a:gridCol w="658800"/>
                <a:gridCol w="660600"/>
                <a:gridCol w="661680"/>
                <a:gridCol w="658800"/>
                <a:gridCol w="660600"/>
                <a:gridCol w="660240"/>
                <a:gridCol w="662040"/>
                <a:gridCol w="658800"/>
                <a:gridCol w="660600"/>
              </a:tblGrid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や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ア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イ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ゆ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つ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ウ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え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ヨ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お　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869796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624880" y="43657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0160" y="33577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4880" y="32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977240" y="43657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00160" y="3357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77240" y="443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4880" y="32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49600" y="32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257960" y="43657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49600" y="328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29600" y="4365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16520" y="328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1652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0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2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4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77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770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77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0" dur="77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2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4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000"/>
                            </p:stCondLst>
                            <p:childTnLst>
                              <p:par>
                                <p:cTn id="9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5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7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9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77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5" dur="770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7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9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0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2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4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6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1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6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10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6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フリーフォーム 7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フリーフォーム 8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フリーフォーム 10"/>
          <p:cNvSpPr/>
          <p:nvPr/>
        </p:nvSpPr>
        <p:spPr>
          <a:xfrm rot="1200000">
            <a:off x="6517800" y="180324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フリーフォーム 11"/>
          <p:cNvSpPr/>
          <p:nvPr/>
        </p:nvSpPr>
        <p:spPr>
          <a:xfrm rot="1200000">
            <a:off x="6375240" y="2225160"/>
            <a:ext cx="424080" cy="40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フリーフォーム 12"/>
          <p:cNvSpPr/>
          <p:nvPr/>
        </p:nvSpPr>
        <p:spPr>
          <a:xfrm rot="1200000">
            <a:off x="6897240" y="194796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フリーフォーム 13"/>
          <p:cNvSpPr/>
          <p:nvPr/>
        </p:nvSpPr>
        <p:spPr>
          <a:xfrm rot="1200000">
            <a:off x="6761160" y="2361960"/>
            <a:ext cx="43992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73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7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2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700"/>
                            </p:stCondLst>
                            <p:childTnLst>
                              <p:par>
                                <p:cTn id="1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5011560" y="0"/>
            <a:ext cx="4894560" cy="6524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4520" y="26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44520" y="3429000"/>
            <a:ext cx="3959280" cy="274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60520" y="76500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08160" y="378936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39800" y="4292640"/>
            <a:ext cx="720720" cy="718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73960" y="1916280"/>
            <a:ext cx="720720" cy="718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1600" y="249228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32520" y="4437000"/>
            <a:ext cx="72072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7541000">
            <a:off x="5833800" y="5066640"/>
            <a:ext cx="360360" cy="395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1600" y="5013360"/>
            <a:ext cx="50292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40520" y="5013360"/>
            <a:ext cx="574560" cy="430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39800" y="508464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げ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ー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むせ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んた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68520" y="4365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game cen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68520" y="515772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ゲ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ー</a:t>
            </a:r>
            <a:r>
              <a:rPr b="1" lang="ja-JP" sz="8000" spc="-1" strike="noStrike">
                <a:solidFill>
                  <a:srgbClr val="ff3399"/>
                </a:solidFill>
                <a:latin typeface="Arial"/>
                <a:ea typeface="NtMotoyaKyotai"/>
              </a:rPr>
              <a:t>ムセ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ンタ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2936880" y="476280"/>
            <a:ext cx="4249800" cy="3943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452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ff"/>
                </a:solidFill>
                <a:latin typeface="Comic Sans MS"/>
              </a:rPr>
              <a:t>New Kata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フリーフォーム 6"/>
          <p:cNvSpPr/>
          <p:nvPr/>
        </p:nvSpPr>
        <p:spPr>
          <a:xfrm rot="18900000">
            <a:off x="2390760" y="2373120"/>
            <a:ext cx="2486160" cy="87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フリーフォーム 12"/>
          <p:cNvSpPr/>
          <p:nvPr/>
        </p:nvSpPr>
        <p:spPr>
          <a:xfrm>
            <a:off x="3892680" y="2514600"/>
            <a:ext cx="3159000" cy="68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フリーフォーム 14"/>
          <p:cNvSpPr/>
          <p:nvPr/>
        </p:nvSpPr>
        <p:spPr>
          <a:xfrm rot="18900000">
            <a:off x="2903040" y="3781080"/>
            <a:ext cx="3162600" cy="123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936880" y="1700280"/>
            <a:ext cx="3887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け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98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Ministry of Education</cp:lastModifiedBy>
  <dcterms:modified xsi:type="dcterms:W3CDTF">2010-02-22T02:43:44Z</dcterms:modified>
  <cp:revision>75</cp:revision>
  <dc:subject/>
  <dc:title>スライド 1</dc:title>
</cp:coreProperties>
</file>